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CD6-A431-4E79-9CBB-012CE4D2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A7D-A935-42BA-99C3-96D8399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F39-680C-433D-AB84-4CF4223F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24B-3522-4772-BFA2-5904B180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D1F-8C1E-4A67-978A-CAA4DF3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D79-4FE2-4BA7-A73A-A17C4A9C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953-8423-4986-84A6-12F4AEB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87E-7D32-4D4E-B49F-F66C2FD3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643-03BF-4648-A1BB-234EEDF6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B85-0334-4DA5-AB52-4096FA8A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B87-699D-498A-8F9E-DE86349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9B8-B322-4393-B7BB-7BBE694A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1BF0-B8B3-4D68-9DB0-CE7D0057D06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SENTE DE INDI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54120" y="27432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8040" y="1965240"/>
            <a:ext cx="5411520" cy="3447000"/>
            <a:chOff x="608040" y="1965240"/>
            <a:chExt cx="5411520" cy="3447000"/>
          </a:xfrm>
        </p:grpSpPr>
        <p:sp>
          <p:nvSpPr>
            <p:cNvPr id="44" name=""/>
            <p:cNvSpPr/>
            <p:nvPr/>
          </p:nvSpPr>
          <p:spPr>
            <a:xfrm>
              <a:off x="608040" y="3171960"/>
              <a:ext cx="2573280" cy="22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tú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él, ella, ust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n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v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ellos, ellas, usted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39920" y="196524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ERBOS REG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167080" y="274320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38560" y="274320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5680" y="3168720"/>
            <a:ext cx="73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5320" y="35416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2440" y="39020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3880" y="4267080"/>
            <a:ext cx="12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3520" y="46324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á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880" y="4997520"/>
            <a:ext cx="8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73200" y="31798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61680" y="3537000"/>
            <a:ext cx="8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63120" y="390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66000" y="4267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4560" y="46324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68160" y="50007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38920" y="31798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8280" y="3537000"/>
            <a:ext cx="11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5400" y="390996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0" y="42670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0080" y="4632480"/>
            <a:ext cx="10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0080" y="49975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09080" y="1905120"/>
            <a:ext cx="55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n formas invariables cuando se refieren a verbos y a adje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74240" y="1219320"/>
            <a:ext cx="37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, MUCHO, DEMASIA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14320" y="4022640"/>
            <a:ext cx="6590880" cy="444600"/>
            <a:chOff x="814320" y="4022640"/>
            <a:chExt cx="6590880" cy="444600"/>
          </a:xfrm>
        </p:grpSpPr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814320" y="4022640"/>
              <a:ext cx="511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183320" y="4114800"/>
              <a:ext cx="622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tención: para referirnos de nuevo a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y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+ adjetivo, podemos usar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cho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152720" y="4495680"/>
            <a:ext cx="383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stá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uy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cansado, ¿verdad?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uch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43000" y="2362320"/>
            <a:ext cx="2819520" cy="1523880"/>
            <a:chOff x="1143000" y="2362320"/>
            <a:chExt cx="2819520" cy="1523880"/>
          </a:xfrm>
        </p:grpSpPr>
        <p:sp>
          <p:nvSpPr>
            <p:cNvPr id="192" name=""/>
            <p:cNvSpPr/>
            <p:nvPr/>
          </p:nvSpPr>
          <p:spPr>
            <a:xfrm>
              <a:off x="1143000" y="2362320"/>
              <a:ext cx="281952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7160" y="2438280"/>
              <a:ext cx="168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feridas a verb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87640" y="2819520"/>
              <a:ext cx="254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Ana trabaja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demasiad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tos niños duermen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much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Coméi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muy poc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milio no estudia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nada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2362320"/>
            <a:ext cx="2819520" cy="1523880"/>
            <a:chOff x="4724280" y="2362320"/>
            <a:chExt cx="2819520" cy="1523880"/>
          </a:xfrm>
        </p:grpSpPr>
        <p:sp>
          <p:nvSpPr>
            <p:cNvPr id="196" name=""/>
            <p:cNvSpPr/>
            <p:nvPr/>
          </p:nvSpPr>
          <p:spPr>
            <a:xfrm>
              <a:off x="4724280" y="2362320"/>
              <a:ext cx="2819520" cy="1523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3680" y="2819520"/>
              <a:ext cx="2642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Ana está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demasiad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cansad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toy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muy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cans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Yo soy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poc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ági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No e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nada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fuer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8560" y="2438280"/>
              <a:ext cx="184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feridas a ad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989280" y="5113440"/>
            <a:ext cx="6191280" cy="756360"/>
            <a:chOff x="989280" y="5113440"/>
            <a:chExt cx="6191280" cy="756360"/>
          </a:xfrm>
        </p:grpSpPr>
        <p:sp>
          <p:nvSpPr>
            <p:cNvPr id="200" name=""/>
            <p:cNvSpPr/>
            <p:nvPr/>
          </p:nvSpPr>
          <p:spPr>
            <a:xfrm>
              <a:off x="1179360" y="5562720"/>
              <a:ext cx="527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un poc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lento.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un poc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sa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89280" y="5113440"/>
              <a:ext cx="619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cuerda que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n poco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solo se usa con adjetivos de significado negativ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952520" y="5562720"/>
              <a:ext cx="1370880" cy="304560"/>
              <a:chOff x="4952520" y="5562720"/>
              <a:chExt cx="1370880" cy="304560"/>
            </a:xfrm>
          </p:grpSpPr>
          <p:sp>
            <p:nvSpPr>
              <p:cNvPr id="203" name=""/>
              <p:cNvSpPr/>
              <p:nvPr/>
            </p:nvSpPr>
            <p:spPr>
              <a:xfrm flipH="1">
                <a:off x="4952520" y="5562720"/>
                <a:ext cx="137052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52880" y="5562720"/>
                <a:ext cx="137052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ut thruBlk="true"/>
    <p:sndAc>
      <p:stSnd>
        <p:snd r:embed="rId7" name="camera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38080" y="175248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nombres terminados en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on generalmente femeninos y los terminados en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masculinos. Hay, sin embargo, muchas excep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29680" y="990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NERO DE LOS 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65120" y="5041800"/>
            <a:ext cx="6164280" cy="444600"/>
            <a:chOff x="465120" y="5041800"/>
            <a:chExt cx="6164280" cy="44460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465120" y="5041800"/>
              <a:ext cx="511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30160" y="5141880"/>
              <a:ext cx="57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ro: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ca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          l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da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         l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ra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22960" y="2438280"/>
            <a:ext cx="44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í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0720" y="2940120"/>
            <a:ext cx="57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general son femeninos los nombres que tienen las termin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/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ad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z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r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2240" y="3610080"/>
            <a:ext cx="74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vers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ón          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ifu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ón          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felici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ad          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is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za         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herm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6040" y="4119480"/>
            <a:ext cx="57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n masculinos la mayor parte de los nombres terminados en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0160" y="4600440"/>
            <a:ext cx="709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e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ble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          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u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          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ínt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          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r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6" name="camera.wav"/>
      </p:stSnd>
    </p:sndAc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3276720"/>
            <a:ext cx="2438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yo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tú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nosotros/as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vosotros/as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2575080"/>
            <a:ext cx="175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BURRIR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9800" y="1523880"/>
            <a:ext cx="30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REFLEX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85800" y="2940120"/>
            <a:ext cx="76212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0000" y="26049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R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324480" y="2895480"/>
            <a:ext cx="99072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3880" y="3321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6760" y="36482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7120" y="39765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6040" y="43099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nos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7120" y="4640400"/>
            <a:ext cx="11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os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á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5400" y="4967280"/>
            <a:ext cx="11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76440" y="3314880"/>
            <a:ext cx="12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79320" y="36482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360" y="3978360"/>
            <a:ext cx="11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78600" y="431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77520" y="4640400"/>
            <a:ext cx="11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2920" y="496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2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972800" y="2070000"/>
            <a:ext cx="441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r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perta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7200" y="1295280"/>
            <a:ext cx="41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I): E/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2416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5000" y="27511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39840" y="3230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1640" y="3594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720" y="39481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4160" y="43210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33360" y="4684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4520" y="50515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72280" y="3230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58960" y="35956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2560" y="39481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72640" y="432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er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3280" y="46846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ertá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59320" y="504972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r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3" name="camera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42480" y="1190520"/>
            <a:ext cx="40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II): E/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6880" y="1905120"/>
            <a:ext cx="57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u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d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sti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9760" y="295128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5560" y="25909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89960" y="2592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V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66440" y="29494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65720" y="33051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66080" y="36860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5720" y="405144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c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65720" y="4416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c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65720" y="4772160"/>
            <a:ext cx="8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82040" y="294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r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81680" y="3305160"/>
            <a:ext cx="8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82040" y="3686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80960" y="4051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erv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1680" y="441648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erv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81680" y="4772160"/>
            <a:ext cx="87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r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3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44440" y="2523960"/>
            <a:ext cx="1295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81280" y="1203480"/>
            <a:ext cx="44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III): O/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4200" y="1876320"/>
            <a:ext cx="47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como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d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osta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v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3120" y="252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97520" y="252252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T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9760" y="295128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66440" y="29494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65720" y="3305160"/>
            <a:ext cx="10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66440" y="36860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65360" y="405144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od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65720" y="44164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od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66080" y="4772160"/>
            <a:ext cx="10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81680" y="29494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me ac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81320" y="33051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te ac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81680" y="36860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e ac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80240" y="40514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nos aco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80600" y="44164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os acostá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81320" y="47721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e ac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3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60520" y="1284120"/>
            <a:ext cx="44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IV): U/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11960" y="2521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68600" y="295128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24920" y="29494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24560" y="3305160"/>
            <a:ext cx="9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24920" y="36860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24920" y="405144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ug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24920" y="4416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ugá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24920" y="4772160"/>
            <a:ext cx="9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2" name="camera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240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yo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3080" y="120348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rias irregularidades en el Pres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330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rregularidad en la 1ª persona del singular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c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n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n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n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2760" y="4419720"/>
            <a:ext cx="54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s          d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s          t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4" name="camera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4440" y="1295280"/>
            <a:ext cx="79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VI): IRREGULARIDADES ESPE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0" y="2517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1840" y="294012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89600" y="2970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90320" y="3325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89960" y="3706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89960" y="40719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89960" y="4437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89600" y="479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7840" y="2519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11520" y="2971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66"/>
                </a:solidFill>
                <a:latin typeface="Arial"/>
              </a:rPr>
              <a:t>d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12240" y="33274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12240" y="370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12600" y="40734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12600" y="44388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12600" y="4794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0160" y="2519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4920" y="2971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st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95280" y="3327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s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5280" y="3708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st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4920" y="40734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e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4920" y="4438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está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4920" y="47941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s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2521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77680" y="2973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40"/>
                </a:solidFill>
                <a:latin typeface="Arial"/>
              </a:rPr>
              <a:t>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78040" y="33289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77680" y="371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8040" y="40752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78040" y="44402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é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78040" y="47959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2" name="camera.wav"/>
      </p:stSnd>
    </p:sndAc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1889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n ir en diferentes lugares de la f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1872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PRESIONES DE 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71600" y="4044960"/>
            <a:ext cx="5721840" cy="1672560"/>
            <a:chOff x="1371600" y="4044960"/>
            <a:chExt cx="5721840" cy="167256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1371600" y="4044960"/>
              <a:ext cx="5205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752120" y="4098960"/>
              <a:ext cx="5341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+ verbo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tomo café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+ verbo +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tomo café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750680" y="2422440"/>
            <a:ext cx="43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Vamos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a esquiar a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Vamos a esquiar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a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vamos a esquiar a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4" name="camera.wav"/>
      </p:stSnd>
    </p:sndAc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6:11:29Z</dcterms:created>
  <dc:creator>USER</dc:creator>
  <dc:description/>
  <dc:language>en-US</dc:language>
  <cp:lastModifiedBy>Agustí Garmendia</cp:lastModifiedBy>
  <cp:lastPrinted>2007-06-19T14:05:06Z</cp:lastPrinted>
  <dcterms:modified xsi:type="dcterms:W3CDTF">2007-06-22T10:24:48Z</dcterms:modified>
  <cp:revision>125</cp:revision>
  <dc:subject/>
  <dc:title>Παρουσίαση του PowerPoint</dc:title>
</cp:coreProperties>
</file>